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891200" cy="3291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1DBF-730E-4652-B930-45165BBBB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93840" y="1902744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EEC4-C8EB-4639-8954-923B6599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43592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6612-E02E-41DB-9B08-9A88F500B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55020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90620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9384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55020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90620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D2F9-DE2C-4AB5-9017-4D99E7942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49"/>
              </a:spcBef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89CE-9087-4E47-AEB0-35701762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95F6-445B-49FB-96F7-D37BF18E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812C-7417-4CEE-B97A-6123DD58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46BF-D4C2-47D8-9302-115FA3D3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93840" y="1317600"/>
            <a:ext cx="3950352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49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7197-C9CE-47C2-A492-C01F5277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9820-5BAD-4C00-99CD-9213550C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43592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80F0-00B0-48A6-8AC7-BA05E98B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D2F0-F9ED-4A77-96E1-1EEAB614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r>
              <a:rPr b="0" lang="en-US" sz="21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marL="1646280" indent="-164628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1" marL="3565440" indent="-137160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2" marL="5486400" indent="-109692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3" marL="7680240" indent="-109692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4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5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6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93840" y="29976840"/>
            <a:ext cx="102427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995440" y="29976840"/>
            <a:ext cx="139003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454640" y="29976840"/>
            <a:ext cx="102427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4861-1999-42CF-BDEC-1DD31A60EC9E}" type="slidenum">
              <a:rPr b="0" lang="en-US" sz="6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6106760" cy="33089760"/>
          </a:xfrm>
          <a:custGeom>
            <a:avLst/>
            <a:gdLst/>
            <a:ahLst/>
            <a:rect l="l" t="t" r="r" b="b"/>
            <a:pathLst>
              <a:path w="10146" h="20844">
                <a:moveTo>
                  <a:pt x="5148" y="20700"/>
                </a:moveTo>
                <a:cubicBezTo>
                  <a:pt x="5796" y="20700"/>
                  <a:pt x="9396" y="20772"/>
                  <a:pt x="9936" y="20772"/>
                </a:cubicBezTo>
                <a:cubicBezTo>
                  <a:pt x="10146" y="20628"/>
                  <a:pt x="7992" y="18540"/>
                  <a:pt x="7632" y="17460"/>
                </a:cubicBezTo>
                <a:cubicBezTo>
                  <a:pt x="7279" y="16351"/>
                  <a:pt x="7290" y="15246"/>
                  <a:pt x="7344" y="14328"/>
                </a:cubicBezTo>
                <a:cubicBezTo>
                  <a:pt x="7398" y="13410"/>
                  <a:pt x="7848" y="12066"/>
                  <a:pt x="7956" y="11952"/>
                </a:cubicBezTo>
                <a:cubicBezTo>
                  <a:pt x="7992" y="12600"/>
                  <a:pt x="7992" y="12564"/>
                  <a:pt x="7992" y="13644"/>
                </a:cubicBezTo>
                <a:cubicBezTo>
                  <a:pt x="8280" y="12492"/>
                  <a:pt x="8640" y="11268"/>
                  <a:pt x="9324" y="10152"/>
                </a:cubicBezTo>
                <a:cubicBezTo>
                  <a:pt x="8568" y="9000"/>
                  <a:pt x="8028" y="7668"/>
                  <a:pt x="7668" y="6840"/>
                </a:cubicBezTo>
                <a:cubicBezTo>
                  <a:pt x="7776" y="7956"/>
                  <a:pt x="7668" y="7236"/>
                  <a:pt x="7776" y="8352"/>
                </a:cubicBezTo>
                <a:cubicBezTo>
                  <a:pt x="7440" y="7896"/>
                  <a:pt x="6228" y="5664"/>
                  <a:pt x="5688" y="4284"/>
                </a:cubicBezTo>
                <a:cubicBezTo>
                  <a:pt x="5244" y="2898"/>
                  <a:pt x="5148" y="1152"/>
                  <a:pt x="5112" y="36"/>
                </a:cubicBezTo>
                <a:cubicBezTo>
                  <a:pt x="3744" y="0"/>
                  <a:pt x="1692" y="36"/>
                  <a:pt x="0" y="36"/>
                </a:cubicBezTo>
                <a:cubicBezTo>
                  <a:pt x="72" y="2916"/>
                  <a:pt x="36" y="17496"/>
                  <a:pt x="72" y="20628"/>
                </a:cubicBezTo>
                <a:cubicBezTo>
                  <a:pt x="1008" y="20700"/>
                  <a:pt x="4356" y="20844"/>
                  <a:pt x="5148" y="20700"/>
                </a:cubicBez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aeae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2485520" y="9844200"/>
            <a:ext cx="19442160" cy="17130600"/>
            <a:chOff x="12485520" y="9844200"/>
            <a:chExt cx="19442160" cy="17130600"/>
          </a:xfrm>
        </p:grpSpPr>
        <p:pic>
          <p:nvPicPr>
            <p:cNvPr id="43" name="Picture 48" descr="3747"/>
            <p:cNvPicPr/>
            <p:nvPr/>
          </p:nvPicPr>
          <p:blipFill>
            <a:blip r:embed="rId1"/>
            <a:stretch/>
          </p:blipFill>
          <p:spPr>
            <a:xfrm>
              <a:off x="12485520" y="22934520"/>
              <a:ext cx="3813480" cy="353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Group 5"/>
            <p:cNvGrpSpPr/>
            <p:nvPr/>
          </p:nvGrpSpPr>
          <p:grpSpPr>
            <a:xfrm>
              <a:off x="14462280" y="9844200"/>
              <a:ext cx="17465400" cy="17130600"/>
              <a:chOff x="14462280" y="9844200"/>
              <a:chExt cx="17465400" cy="17130600"/>
            </a:xfrm>
          </p:grpSpPr>
          <p:pic>
            <p:nvPicPr>
              <p:cNvPr id="45" name="Picture 31" descr="Triar"/>
              <p:cNvPicPr/>
              <p:nvPr/>
            </p:nvPicPr>
            <p:blipFill>
              <a:blip r:embed="rId2"/>
              <a:stretch/>
            </p:blipFill>
            <p:spPr>
              <a:xfrm>
                <a:off x="16100280" y="11512440"/>
                <a:ext cx="11141280" cy="1546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Picture 22" descr="invaex2"/>
              <p:cNvPicPr/>
              <p:nvPr/>
            </p:nvPicPr>
            <p:blipFill>
              <a:blip r:embed="rId3"/>
              <a:stretch/>
            </p:blipFill>
            <p:spPr>
              <a:xfrm>
                <a:off x="27474840" y="20699280"/>
                <a:ext cx="4452840" cy="490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Line 24"/>
              <p:cNvSpPr/>
              <p:nvPr/>
            </p:nvSpPr>
            <p:spPr>
              <a:xfrm>
                <a:off x="16370280" y="21425040"/>
                <a:ext cx="3662280" cy="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Text Box 25"/>
              <p:cNvSpPr/>
              <p:nvPr/>
            </p:nvSpPr>
            <p:spPr>
              <a:xfrm rot="1098600">
                <a:off x="25526520" y="20972520"/>
                <a:ext cx="3618000" cy="13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Mobile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9" name="Picture 31" descr="oxygentank"/>
              <p:cNvPicPr/>
              <p:nvPr/>
            </p:nvPicPr>
            <p:blipFill>
              <a:blip r:embed="rId4"/>
              <a:srcRect l="25018" t="0" r="20014" b="0"/>
              <a:stretch/>
            </p:blipFill>
            <p:spPr>
              <a:xfrm>
                <a:off x="14603400" y="19275480"/>
                <a:ext cx="2416320" cy="363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Line 33"/>
              <p:cNvSpPr/>
              <p:nvPr/>
            </p:nvSpPr>
            <p:spPr>
              <a:xfrm flipV="1">
                <a:off x="15774840" y="24883560"/>
                <a:ext cx="5529240" cy="90828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Text Box 34"/>
              <p:cNvSpPr/>
              <p:nvPr/>
            </p:nvSpPr>
            <p:spPr>
              <a:xfrm>
                <a:off x="15160680" y="21412080"/>
                <a:ext cx="5357880" cy="135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Accessible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2" name="Picture 36" descr="vital-signs-300-large3"/>
              <p:cNvPicPr/>
              <p:nvPr/>
            </p:nvPicPr>
            <p:blipFill>
              <a:blip r:embed="rId5"/>
              <a:stretch/>
            </p:blipFill>
            <p:spPr>
              <a:xfrm>
                <a:off x="14462280" y="14185800"/>
                <a:ext cx="2690640" cy="506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Line 38"/>
              <p:cNvSpPr/>
              <p:nvPr/>
            </p:nvSpPr>
            <p:spPr>
              <a:xfrm flipV="1">
                <a:off x="26363520" y="11478960"/>
                <a:ext cx="1979640" cy="68076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Text Box 39"/>
              <p:cNvSpPr/>
              <p:nvPr/>
            </p:nvSpPr>
            <p:spPr>
              <a:xfrm>
                <a:off x="16068600" y="17208360"/>
                <a:ext cx="3616560" cy="135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Vita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5" name="Picture 40" descr="ivstand"/>
              <p:cNvPicPr/>
              <p:nvPr/>
            </p:nvPicPr>
            <p:blipFill>
              <a:blip r:embed="rId6"/>
              <a:stretch/>
            </p:blipFill>
            <p:spPr>
              <a:xfrm>
                <a:off x="27973440" y="9844200"/>
                <a:ext cx="2170080" cy="531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Text Box 43"/>
              <p:cNvSpPr/>
              <p:nvPr/>
            </p:nvSpPr>
            <p:spPr>
              <a:xfrm rot="20649600">
                <a:off x="25405920" y="10942560"/>
                <a:ext cx="3618000" cy="135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Portable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7" name="Picture 44" descr="CDR0000526546"/>
              <p:cNvPicPr/>
              <p:nvPr/>
            </p:nvPicPr>
            <p:blipFill>
              <a:blip r:embed="rId7"/>
              <a:srcRect l="0" t="6900" r="31334" b="12523"/>
              <a:stretch/>
            </p:blipFill>
            <p:spPr>
              <a:xfrm>
                <a:off x="28744920" y="16382880"/>
                <a:ext cx="2103480" cy="193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Line 46"/>
              <p:cNvSpPr/>
              <p:nvPr/>
            </p:nvSpPr>
            <p:spPr>
              <a:xfrm>
                <a:off x="16903800" y="17132400"/>
                <a:ext cx="2225520" cy="7308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Text Box 47"/>
              <p:cNvSpPr/>
              <p:nvPr/>
            </p:nvSpPr>
            <p:spPr>
              <a:xfrm rot="21347400">
                <a:off x="25614000" y="16995600"/>
                <a:ext cx="3618000" cy="135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Han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50"/>
              <p:cNvSpPr/>
              <p:nvPr/>
            </p:nvSpPr>
            <p:spPr>
              <a:xfrm>
                <a:off x="25984080" y="21218400"/>
                <a:ext cx="2349720" cy="81936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51"/>
              <p:cNvSpPr/>
              <p:nvPr/>
            </p:nvSpPr>
            <p:spPr>
              <a:xfrm rot="20956800">
                <a:off x="15165360" y="24904800"/>
                <a:ext cx="3618000" cy="13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Practica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2" name="Picture 52" descr="FAM_CLOROX_DISINFECTING_WIPE-2719"/>
              <p:cNvPicPr/>
              <p:nvPr/>
            </p:nvPicPr>
            <p:blipFill>
              <a:blip r:embed="rId8"/>
              <a:srcRect l="10709" t="5394" r="13504" b="0"/>
              <a:stretch/>
            </p:blipFill>
            <p:spPr>
              <a:xfrm rot="646800">
                <a:off x="14935320" y="10445400"/>
                <a:ext cx="1733400" cy="238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Text Box 55"/>
              <p:cNvSpPr/>
              <p:nvPr/>
            </p:nvSpPr>
            <p:spPr>
              <a:xfrm rot="615600">
                <a:off x="15697080" y="11423160"/>
                <a:ext cx="3616560" cy="135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Sanitar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38"/>
              <p:cNvSpPr/>
              <p:nvPr/>
            </p:nvSpPr>
            <p:spPr>
              <a:xfrm flipV="1">
                <a:off x="26363520" y="11478960"/>
                <a:ext cx="1979640" cy="68076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42"/>
              <p:cNvSpPr/>
              <p:nvPr/>
            </p:nvSpPr>
            <p:spPr>
              <a:xfrm flipV="1">
                <a:off x="26179560" y="17746200"/>
                <a:ext cx="2349360" cy="20340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46"/>
              <p:cNvSpPr/>
              <p:nvPr/>
            </p:nvSpPr>
            <p:spPr>
              <a:xfrm>
                <a:off x="16903800" y="17132400"/>
                <a:ext cx="2225520" cy="7308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54"/>
              <p:cNvSpPr/>
              <p:nvPr/>
            </p:nvSpPr>
            <p:spPr>
              <a:xfrm flipH="1" flipV="1">
                <a:off x="16484760" y="12052080"/>
                <a:ext cx="2411280" cy="47628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" name="Group 7"/>
          <p:cNvGrpSpPr/>
          <p:nvPr/>
        </p:nvGrpSpPr>
        <p:grpSpPr>
          <a:xfrm>
            <a:off x="1581120" y="723960"/>
            <a:ext cx="6362280" cy="4724280"/>
            <a:chOff x="1581120" y="723960"/>
            <a:chExt cx="6362280" cy="4724280"/>
          </a:xfrm>
        </p:grpSpPr>
        <p:sp>
          <p:nvSpPr>
            <p:cNvPr id="69" name="Line 8"/>
            <p:cNvSpPr/>
            <p:nvPr/>
          </p:nvSpPr>
          <p:spPr>
            <a:xfrm flipV="1">
              <a:off x="3298320" y="3130200"/>
              <a:ext cx="632880" cy="207540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9"/>
            <p:cNvSpPr/>
            <p:nvPr/>
          </p:nvSpPr>
          <p:spPr>
            <a:xfrm>
              <a:off x="2509920" y="926280"/>
              <a:ext cx="1443600" cy="172332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0"/>
            <p:cNvSpPr/>
            <p:nvPr/>
          </p:nvSpPr>
          <p:spPr>
            <a:xfrm>
              <a:off x="5038200" y="3128400"/>
              <a:ext cx="1233720" cy="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1"/>
            <p:cNvSpPr/>
            <p:nvPr/>
          </p:nvSpPr>
          <p:spPr>
            <a:xfrm>
              <a:off x="3772440" y="3130560"/>
              <a:ext cx="1108080" cy="49428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3953880" y="2644200"/>
              <a:ext cx="1130760" cy="29088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>
              <a:off x="1581120" y="723960"/>
              <a:ext cx="949320" cy="23004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4"/>
            <p:cNvSpPr/>
            <p:nvPr/>
          </p:nvSpPr>
          <p:spPr>
            <a:xfrm flipV="1">
              <a:off x="5540040" y="2700720"/>
              <a:ext cx="312480" cy="42732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5"/>
            <p:cNvSpPr/>
            <p:nvPr/>
          </p:nvSpPr>
          <p:spPr>
            <a:xfrm>
              <a:off x="5124240" y="2695680"/>
              <a:ext cx="1232280" cy="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6"/>
            <p:cNvSpPr/>
            <p:nvPr/>
          </p:nvSpPr>
          <p:spPr>
            <a:xfrm>
              <a:off x="6710040" y="3128400"/>
              <a:ext cx="1176120" cy="205776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7"/>
            <p:cNvSpPr/>
            <p:nvPr/>
          </p:nvSpPr>
          <p:spPr>
            <a:xfrm flipV="1">
              <a:off x="6643080" y="4116960"/>
              <a:ext cx="632880" cy="19800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>
              <a:off x="6878520" y="2926080"/>
              <a:ext cx="714960" cy="121536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9"/>
            <p:cNvSpPr/>
            <p:nvPr/>
          </p:nvSpPr>
          <p:spPr>
            <a:xfrm>
              <a:off x="6958440" y="2860200"/>
              <a:ext cx="984960" cy="45936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0"/>
            <p:cNvSpPr/>
            <p:nvPr/>
          </p:nvSpPr>
          <p:spPr>
            <a:xfrm>
              <a:off x="6377040" y="3091320"/>
              <a:ext cx="342360" cy="18360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21"/>
            <p:cNvSpPr/>
            <p:nvPr/>
          </p:nvSpPr>
          <p:spPr>
            <a:xfrm flipH="1">
              <a:off x="2820600" y="2452680"/>
              <a:ext cx="948960" cy="296604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22"/>
            <p:cNvSpPr/>
            <p:nvPr/>
          </p:nvSpPr>
          <p:spPr>
            <a:xfrm>
              <a:off x="6393960" y="3270600"/>
              <a:ext cx="529920" cy="217764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AutoShape 2"/>
          <p:cNvSpPr/>
          <p:nvPr/>
        </p:nvSpPr>
        <p:spPr>
          <a:xfrm>
            <a:off x="11125080" y="266760"/>
            <a:ext cx="38481120" cy="2514600"/>
          </a:xfrm>
          <a:prstGeom prst="roundRect">
            <a:avLst>
              <a:gd name="adj" fmla="val 50000"/>
            </a:avLst>
          </a:prstGeom>
          <a:solidFill>
            <a:srgbClr val="99ccff">
              <a:alpha val="50000"/>
            </a:srgbClr>
          </a:solidFill>
          <a:ln w="190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0" bIns="46800" anchor="ctr">
            <a:noAutofit/>
          </a:bodyPr>
          <a:p>
            <a:pPr>
              <a:spcBef>
                <a:spcPts val="5939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95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9500" spc="-1" strike="noStrike">
                <a:solidFill>
                  <a:srgbClr val="333399"/>
                </a:solidFill>
                <a:latin typeface="Arial"/>
              </a:rPr>
              <a:t>Process Defining Furniture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89480"/>
                <a:tab algn="l" pos="8778960"/>
              </a:tabLst>
            </a:pP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3"/>
          <p:cNvSpPr/>
          <p:nvPr/>
        </p:nvSpPr>
        <p:spPr>
          <a:xfrm>
            <a:off x="15011280" y="2933640"/>
            <a:ext cx="34594920" cy="1524240"/>
          </a:xfrm>
          <a:prstGeom prst="roundRect">
            <a:avLst>
              <a:gd name="adj" fmla="val 50000"/>
            </a:avLst>
          </a:prstGeom>
          <a:solidFill>
            <a:srgbClr val="333399"/>
          </a:solidFill>
          <a:ln w="127080">
            <a:solidFill>
              <a:srgbClr val="bdd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389480"/>
                <a:tab algn="l" pos="8778960"/>
              </a:tabLst>
            </a:pPr>
            <a:r>
              <a:rPr b="1" lang="en-US" sz="6000" spc="-1" strike="noStrike">
                <a:solidFill>
                  <a:srgbClr val="bddeff"/>
                </a:solidFill>
                <a:latin typeface="Arial"/>
              </a:rPr>
              <a:t>      </a:t>
            </a:r>
            <a:r>
              <a:rPr b="1" lang="en-US" sz="6600" spc="-1" strike="noStrike">
                <a:solidFill>
                  <a:srgbClr val="bddeff"/>
                </a:solidFill>
                <a:latin typeface="Arial"/>
              </a:rPr>
              <a:t>Advancing Triage for the Futu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4"/>
          <p:cNvSpPr/>
          <p:nvPr/>
        </p:nvSpPr>
        <p:spPr>
          <a:xfrm>
            <a:off x="2095560" y="5524560"/>
            <a:ext cx="640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99"/>
                </a:solidFill>
                <a:latin typeface="Gulim"/>
                <a:ea typeface="Arial"/>
              </a:rPr>
              <a:t>The Triage Cha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9"/>
          <p:cNvSpPr/>
          <p:nvPr/>
        </p:nvSpPr>
        <p:spPr>
          <a:xfrm>
            <a:off x="34670880" y="22783680"/>
            <a:ext cx="90680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54"/>
          <p:cNvGrpSpPr/>
          <p:nvPr/>
        </p:nvGrpSpPr>
        <p:grpSpPr>
          <a:xfrm>
            <a:off x="14325480" y="27565200"/>
            <a:ext cx="15544800" cy="5443560"/>
            <a:chOff x="14325480" y="27565200"/>
            <a:chExt cx="15544800" cy="5443560"/>
          </a:xfrm>
        </p:grpSpPr>
        <p:pic>
          <p:nvPicPr>
            <p:cNvPr id="89" name="Picture 27" descr="HR1130_Advance2000"/>
            <p:cNvPicPr/>
            <p:nvPr/>
          </p:nvPicPr>
          <p:blipFill>
            <a:blip r:embed="rId9"/>
            <a:stretch/>
          </p:blipFill>
          <p:spPr>
            <a:xfrm>
              <a:off x="14325480" y="28433520"/>
              <a:ext cx="5677200" cy="40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Line 29"/>
            <p:cNvSpPr/>
            <p:nvPr/>
          </p:nvSpPr>
          <p:spPr>
            <a:xfrm>
              <a:off x="20650320" y="30476520"/>
              <a:ext cx="304776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30"/>
            <p:cNvSpPr/>
            <p:nvPr/>
          </p:nvSpPr>
          <p:spPr>
            <a:xfrm>
              <a:off x="19431000" y="29467080"/>
              <a:ext cx="5143680" cy="15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99"/>
                  </a:solidFill>
                  <a:latin typeface="Arial"/>
                  <a:ea typeface="Arial"/>
                </a:rPr>
                <a:t>Reclining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69" descr=""/>
            <p:cNvPicPr/>
            <p:nvPr/>
          </p:nvPicPr>
          <p:blipFill>
            <a:blip r:embed="rId10"/>
            <a:stretch/>
          </p:blipFill>
          <p:spPr>
            <a:xfrm>
              <a:off x="23294880" y="27565200"/>
              <a:ext cx="6575400" cy="544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Group 93"/>
          <p:cNvGrpSpPr/>
          <p:nvPr/>
        </p:nvGrpSpPr>
        <p:grpSpPr>
          <a:xfrm>
            <a:off x="31775400" y="10896480"/>
            <a:ext cx="11810880" cy="6229440"/>
            <a:chOff x="31775400" y="10896480"/>
            <a:chExt cx="11810880" cy="6229440"/>
          </a:xfrm>
        </p:grpSpPr>
        <p:sp>
          <p:nvSpPr>
            <p:cNvPr id="94" name="Text Box 71"/>
            <p:cNvSpPr/>
            <p:nvPr/>
          </p:nvSpPr>
          <p:spPr>
            <a:xfrm>
              <a:off x="31775400" y="10896480"/>
              <a:ext cx="6121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99"/>
                  </a:solidFill>
                  <a:latin typeface="Arial"/>
                  <a:ea typeface="Arial"/>
                </a:rPr>
                <a:t>Befor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72" descr=""/>
            <p:cNvPicPr/>
            <p:nvPr/>
          </p:nvPicPr>
          <p:blipFill>
            <a:blip r:embed="rId11"/>
            <a:stretch/>
          </p:blipFill>
          <p:spPr>
            <a:xfrm>
              <a:off x="32486400" y="11620080"/>
              <a:ext cx="4959360" cy="548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Freeform 73"/>
            <p:cNvSpPr/>
            <p:nvPr/>
          </p:nvSpPr>
          <p:spPr>
            <a:xfrm>
              <a:off x="33616800" y="13011120"/>
              <a:ext cx="4413240" cy="3562560"/>
            </a:xfrm>
            <a:prstGeom prst="pie">
              <a:avLst/>
            </a:prstGeom>
            <a:noFill/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74"/>
            <p:cNvSpPr/>
            <p:nvPr/>
          </p:nvSpPr>
          <p:spPr>
            <a:xfrm>
              <a:off x="34061400" y="13106160"/>
              <a:ext cx="4190760" cy="3594240"/>
            </a:xfrm>
            <a:prstGeom prst="pie">
              <a:avLst/>
            </a:pr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75"/>
            <p:cNvSpPr/>
            <p:nvPr/>
          </p:nvSpPr>
          <p:spPr>
            <a:xfrm>
              <a:off x="37309320" y="10939320"/>
              <a:ext cx="6188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99"/>
                  </a:solidFill>
                  <a:latin typeface="Arial"/>
                  <a:ea typeface="Arial"/>
                </a:rPr>
                <a:t>Aft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76" descr=""/>
            <p:cNvPicPr/>
            <p:nvPr/>
          </p:nvPicPr>
          <p:blipFill>
            <a:blip r:embed="rId12"/>
            <a:stretch/>
          </p:blipFill>
          <p:spPr>
            <a:xfrm>
              <a:off x="38025360" y="11644200"/>
              <a:ext cx="4871880" cy="54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Freeform 77"/>
            <p:cNvSpPr/>
            <p:nvPr/>
          </p:nvSpPr>
          <p:spPr>
            <a:xfrm>
              <a:off x="39230280" y="15022440"/>
              <a:ext cx="4190760" cy="1206360"/>
            </a:xfrm>
            <a:prstGeom prst="pie">
              <a:avLst/>
            </a:pr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78"/>
            <p:cNvSpPr/>
            <p:nvPr/>
          </p:nvSpPr>
          <p:spPr>
            <a:xfrm>
              <a:off x="40716360" y="13092120"/>
              <a:ext cx="2869920" cy="3886200"/>
            </a:xfrm>
            <a:prstGeom prst="pie">
              <a:avLst/>
            </a:prstGeom>
            <a:noFill/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79"/>
            <p:cNvSpPr/>
            <p:nvPr/>
          </p:nvSpPr>
          <p:spPr>
            <a:xfrm>
              <a:off x="38252520" y="11872800"/>
              <a:ext cx="4419360" cy="2590920"/>
            </a:xfrm>
            <a:prstGeom prst="rect">
              <a:avLst/>
            </a:prstGeom>
            <a:solidFill>
              <a:srgbClr val="99cc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80"/>
            <p:cNvSpPr/>
            <p:nvPr/>
          </p:nvSpPr>
          <p:spPr>
            <a:xfrm rot="21118800">
              <a:off x="38862000" y="12710520"/>
              <a:ext cx="29718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4389480"/>
                  <a:tab algn="l" pos="8778960"/>
                </a:tabLst>
              </a:pPr>
              <a:r>
                <a:rPr b="0" lang="en-US" sz="4400" spc="-1" strike="noStrike">
                  <a:solidFill>
                    <a:srgbClr val="333399"/>
                  </a:solidFill>
                  <a:latin typeface="Arial"/>
                </a:rPr>
                <a:t>Reduced Spac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81"/>
            <p:cNvSpPr/>
            <p:nvPr/>
          </p:nvSpPr>
          <p:spPr>
            <a:xfrm>
              <a:off x="33756480" y="13030200"/>
              <a:ext cx="4114800" cy="3505320"/>
            </a:xfrm>
            <a:prstGeom prst="pie">
              <a:avLst/>
            </a:prstGeom>
            <a:noFill/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Picture 71" descr="connections"/>
          <p:cNvPicPr/>
          <p:nvPr/>
        </p:nvPicPr>
        <p:blipFill>
          <a:blip r:embed="rId13"/>
          <a:stretch/>
        </p:blipFill>
        <p:spPr>
          <a:xfrm>
            <a:off x="32842080" y="25854120"/>
            <a:ext cx="985536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2" descr="future"/>
          <p:cNvPicPr/>
          <p:nvPr/>
        </p:nvPicPr>
        <p:blipFill>
          <a:blip r:embed="rId14"/>
          <a:srcRect l="14269" t="0" r="0" b="0"/>
          <a:stretch/>
        </p:blipFill>
        <p:spPr>
          <a:xfrm>
            <a:off x="31772160" y="18749880"/>
            <a:ext cx="12347640" cy="85298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533520" y="7238880"/>
            <a:ext cx="13106160" cy="64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333399"/>
                </a:solidFill>
                <a:latin typeface="Arial"/>
              </a:rPr>
              <a:t>The Problem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efficient Workfl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oor Space Utiliz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accessible Equip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ack of Procedure Integr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457200" y="14249520"/>
            <a:ext cx="12573000" cy="68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333399"/>
                </a:solidFill>
                <a:latin typeface="Arial"/>
              </a:rPr>
              <a:t>Impact of the Problem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ngthens Triage Ti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reates Extra Walking for Nurses and Pati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arge Space Needed for Current Equip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380880" y="21902760"/>
            <a:ext cx="11811240" cy="80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333399"/>
                </a:solidFill>
                <a:latin typeface="Arial"/>
              </a:rPr>
              <a:t>Design Principles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urniture should be integrated the process to facilitate workflow and reduce Triage ti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urniture should be easy to cle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urniture should be ergono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urniture should be easily adaptab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3"/>
          <p:cNvSpPr/>
          <p:nvPr/>
        </p:nvSpPr>
        <p:spPr>
          <a:xfrm>
            <a:off x="33299280" y="5086440"/>
            <a:ext cx="9982440" cy="55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43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7100" spc="-1" strike="noStrike">
                <a:solidFill>
                  <a:srgbClr val="333399"/>
                </a:solidFill>
                <a:latin typeface="Arial"/>
              </a:rPr>
              <a:t>Triar’s Impact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cuity Adaptab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duces space of Tria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tegrates Triage equip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duces foot pr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aximizes fl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77"/>
          <p:cNvSpPr txBox="1"/>
          <p:nvPr/>
        </p:nvSpPr>
        <p:spPr>
          <a:xfrm>
            <a:off x="16992720" y="4848120"/>
            <a:ext cx="101343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1" strike="noStrike">
                <a:ln w="63360">
                  <a:solidFill>
                    <a:srgbClr val="bdde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One Stop Chair</a:t>
            </a:r>
            <a:endParaRPr b="0" lang="en-US" sz="8600" spc="1" strike="noStrike">
              <a:ln w="63360">
                <a:solidFill>
                  <a:srgbClr val="bdde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2" name="Line 78"/>
          <p:cNvSpPr/>
          <p:nvPr/>
        </p:nvSpPr>
        <p:spPr>
          <a:xfrm>
            <a:off x="31775400" y="4419720"/>
            <a:ext cx="0" cy="28498680"/>
          </a:xfrm>
          <a:prstGeom prst="line">
            <a:avLst/>
          </a:prstGeom>
          <a:ln w="76320">
            <a:solidFill>
              <a:srgbClr val="bdd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2"/>
          <p:cNvSpPr/>
          <p:nvPr/>
        </p:nvSpPr>
        <p:spPr>
          <a:xfrm>
            <a:off x="37414080" y="3733920"/>
            <a:ext cx="685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s, Dr. Craig Zim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3"/>
          <p:cNvSpPr/>
          <p:nvPr/>
        </p:nvSpPr>
        <p:spPr>
          <a:xfrm>
            <a:off x="13868280" y="6845400"/>
            <a:ext cx="6934320" cy="30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lood Press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3"/>
          <p:cNvSpPr/>
          <p:nvPr/>
        </p:nvSpPr>
        <p:spPr>
          <a:xfrm>
            <a:off x="20069280" y="6853320"/>
            <a:ext cx="6933960" cy="30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eel Cha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ul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3"/>
          <p:cNvSpPr/>
          <p:nvPr/>
        </p:nvSpPr>
        <p:spPr>
          <a:xfrm>
            <a:off x="24993720" y="6858000"/>
            <a:ext cx="6933960" cy="30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lood sample tr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tretch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V St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64"/>
          <p:cNvSpPr/>
          <p:nvPr/>
        </p:nvSpPr>
        <p:spPr>
          <a:xfrm>
            <a:off x="30570480" y="-838080"/>
            <a:ext cx="14173200" cy="5422680"/>
          </a:xfrm>
          <a:prstGeom prst="pi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9"/>
          <p:cNvSpPr/>
          <p:nvPr/>
        </p:nvSpPr>
        <p:spPr>
          <a:xfrm>
            <a:off x="32842080" y="171360"/>
            <a:ext cx="1045368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7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andon Thomp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7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cky Halci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7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apil Raj N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0"/>
          <p:cNvSpPr/>
          <p:nvPr/>
        </p:nvSpPr>
        <p:spPr>
          <a:xfrm>
            <a:off x="35114040" y="2619360"/>
            <a:ext cx="876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sors: David Cowan; Jeremy Ackerman, MD, Ph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1"/>
          <p:cNvSpPr/>
          <p:nvPr/>
        </p:nvSpPr>
        <p:spPr>
          <a:xfrm>
            <a:off x="35737920" y="3195720"/>
            <a:ext cx="83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n Yi-Luen Do, PhD; Marilyn Margolis, RN, 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2"/>
          <p:cNvSpPr/>
          <p:nvPr/>
        </p:nvSpPr>
        <p:spPr>
          <a:xfrm>
            <a:off x="36480600" y="376704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aig Zimring, PhD; Marvina Williams, 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93"/>
          <p:cNvSpPr/>
          <p:nvPr/>
        </p:nvSpPr>
        <p:spPr>
          <a:xfrm flipV="1">
            <a:off x="41595840" y="4419720"/>
            <a:ext cx="3217680" cy="38160"/>
          </a:xfrm>
          <a:prstGeom prst="line">
            <a:avLst/>
          </a:prstGeom>
          <a:ln w="190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94" descr=""/>
          <p:cNvPicPr/>
          <p:nvPr/>
        </p:nvPicPr>
        <p:blipFill>
          <a:blip r:embed="rId15"/>
          <a:srcRect l="8635" t="14149" r="5038" b="17686"/>
          <a:stretch/>
        </p:blipFill>
        <p:spPr>
          <a:xfrm>
            <a:off x="38199960" y="0"/>
            <a:ext cx="4724280" cy="2503440"/>
          </a:xfrm>
          <a:prstGeom prst="rect">
            <a:avLst/>
          </a:prstGeom>
          <a:ln w="0">
            <a:noFill/>
          </a:ln>
        </p:spPr>
      </p:pic>
      <p:grpSp>
        <p:nvGrpSpPr>
          <p:cNvPr id="124" name="Group 65"/>
          <p:cNvGrpSpPr/>
          <p:nvPr/>
        </p:nvGrpSpPr>
        <p:grpSpPr>
          <a:xfrm>
            <a:off x="30403800" y="228600"/>
            <a:ext cx="11201040" cy="4266720"/>
            <a:chOff x="30403800" y="228600"/>
            <a:chExt cx="11201040" cy="4266720"/>
          </a:xfrm>
        </p:grpSpPr>
        <p:sp>
          <p:nvSpPr>
            <p:cNvPr id="125" name="Line 66"/>
            <p:cNvSpPr/>
            <p:nvPr/>
          </p:nvSpPr>
          <p:spPr>
            <a:xfrm>
              <a:off x="32553720" y="624960"/>
              <a:ext cx="3384360" cy="331920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67"/>
            <p:cNvSpPr/>
            <p:nvPr/>
          </p:nvSpPr>
          <p:spPr>
            <a:xfrm>
              <a:off x="35924040" y="3933720"/>
              <a:ext cx="5680800" cy="56160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68"/>
            <p:cNvSpPr/>
            <p:nvPr/>
          </p:nvSpPr>
          <p:spPr>
            <a:xfrm>
              <a:off x="30403800" y="228600"/>
              <a:ext cx="2210760" cy="45180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Rectangle 88"/>
          <p:cNvSpPr/>
          <p:nvPr/>
        </p:nvSpPr>
        <p:spPr>
          <a:xfrm>
            <a:off x="0" y="0"/>
            <a:ext cx="43891200" cy="32918400"/>
          </a:xfrm>
          <a:prstGeom prst="rect">
            <a:avLst/>
          </a:prstGeom>
          <a:noFill/>
          <a:ln w="254160">
            <a:solidFill>
              <a:srgbClr val="2d2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389480"/>
                <a:tab algn="l" pos="877896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89"/>
          <p:cNvSpPr/>
          <p:nvPr/>
        </p:nvSpPr>
        <p:spPr>
          <a:xfrm>
            <a:off x="34366320" y="172782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rse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81"/>
          <p:cNvSpPr/>
          <p:nvPr/>
        </p:nvSpPr>
        <p:spPr>
          <a:xfrm>
            <a:off x="34633080" y="17430840"/>
            <a:ext cx="533160" cy="228600"/>
          </a:xfrm>
          <a:prstGeom prst="rect">
            <a:avLst/>
          </a:prstGeom>
          <a:solidFill>
            <a:srgbClr val="cc00cc"/>
          </a:solidFill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3"/>
          <p:cNvSpPr/>
          <p:nvPr/>
        </p:nvSpPr>
        <p:spPr>
          <a:xfrm>
            <a:off x="33299280" y="18450000"/>
            <a:ext cx="998244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43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7100" spc="-1" strike="noStrike">
                <a:solidFill>
                  <a:srgbClr val="333399"/>
                </a:solidFill>
                <a:latin typeface="Arial"/>
              </a:rPr>
              <a:t>The Future Triar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9"/>
          <p:cNvSpPr/>
          <p:nvPr/>
        </p:nvSpPr>
        <p:spPr>
          <a:xfrm>
            <a:off x="37814400" y="172972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81"/>
          <p:cNvSpPr/>
          <p:nvPr/>
        </p:nvSpPr>
        <p:spPr>
          <a:xfrm>
            <a:off x="38080800" y="17449920"/>
            <a:ext cx="53352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03:53:45Z</dcterms:created>
  <dc:creator>Becky</dc:creator>
  <dc:description/>
  <dc:language>en-US</dc:language>
  <cp:lastModifiedBy>Thompson</cp:lastModifiedBy>
  <dcterms:modified xsi:type="dcterms:W3CDTF">2008-11-23T19:45:08Z</dcterms:modified>
  <cp:revision>45</cp:revision>
  <dc:subject/>
  <dc:title>Slide 1</dc:title>
</cp:coreProperties>
</file>